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F0D-0FE4-49AC-B078-F764BF6D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6F8-A14C-400D-BEAF-2DE06F62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526-68E3-4282-B54F-F398C25F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444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132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444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132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99F-0E9E-4CBE-AD36-4620C619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7815-8297-40D5-885B-F9949FDF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07CA-8280-4392-9DD0-E29CBA94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ABD8-BBDE-4BFA-B1A3-F8B68686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970D-452C-4029-BEC2-F8986FF1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81E9-BC2C-4B49-BA06-FFF37A9A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115E-FD2D-4B76-8FC5-44297775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F4FD-D77B-4E45-A09C-1FF54D04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430-002C-4005-B943-2CCE520B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1C73-9E1B-4EAA-8EF9-239C5528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B729-EC26-4864-8AB5-1E012189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7AE3-1250-4040-90B4-8468E889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4B0A-C6E6-466C-9581-DBB7E29F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444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31320" y="121896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444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31320" y="396540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A7EB-E480-47DE-9BD3-8007BEAF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8C6-EB08-4303-9932-22762806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78D7-9744-47D9-8634-182FBC1E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EDE4-695E-44B1-B6B0-5483CFF7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A3E-2D29-4C45-888D-C196602F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3CE-C84A-4A15-8410-87BE7A7A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8600" y="396540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E60-0149-41ED-B346-5991E04A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8600" y="121896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40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A65-813F-42C2-B20C-F396D2CC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481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7692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4004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C27C-86A3-427C-8389-4D3FDF4707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8195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513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5136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7bce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513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bce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B232-1FE2-499C-AE2A-624791C46DAF}" type="slidenum">
              <a:rPr b="0" lang="en-US" sz="1000" spc="-1" strike="noStrike">
                <a:solidFill>
                  <a:srgbClr val="57bce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7bce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8195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Sir, We Would See Jesu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362320" y="44953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Quarter 9, Lesson 14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ages 54-56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uke 8:1-3; Matt. 12:22-50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F49F-1ECB-4AF8-B8CC-4506B2D6275D}" type="slidenum">
              <a:t>1</a:t>
            </a:fld>
          </a:p>
        </p:txBody>
      </p:sp>
    </p:spTree>
  </p:cSld>
  <p:transition spd="med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Judgment On This Generatio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Ninevites did greater things with less, and therefore would condemn “this generation”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greater than Jonah is here”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Great things happened in Nineveh after Jonah escaped the jaws of death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Queen of Sheba would also condemn “this generation”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 greater than Solomon is here”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1EF-0BAE-4B39-8A80-8FCA314D9395}" type="slidenum">
              <a:t>10</a:t>
            </a:fld>
          </a:p>
        </p:txBody>
      </p:sp>
    </p:spTree>
  </p:cSld>
  <p:transition spd="med">
    <p:plus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 Worst State Than The Firs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What happens when a house (heart) is cleaned and decorated, but empty?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Pharisees were like a former demon-possessed man, re-occupied in a 7-times-worse way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esus was dealing with a wicked generation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E806-87C0-4A29-8A9D-A7B3CB64DD07}" type="slidenum">
              <a:t>11</a:t>
            </a:fld>
          </a:p>
        </p:txBody>
      </p:sp>
    </p:spTree>
  </p:cSld>
  <p:transition spd="med">
    <p:plus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Jesus’ Mother and Brethre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esus had an earthly family wanting to see Him – Matt. 12:46-47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esus did not teach the idea of the superiority of Mary – Luke 11:27-28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esus said that all obedient to the Father would be equally related to Him – Matt. 12:48-50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obedient are most special to Jesu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ary did not have a corner on obedience to God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C0BA-6143-4223-A04C-36906FFDE3AE}" type="slidenum">
              <a:t>12</a:t>
            </a:fld>
          </a:p>
        </p:txBody>
      </p:sp>
    </p:spTree>
  </p:cSld>
  <p:transition spd="med">
    <p:plus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Great Galilean Ministry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837720"/>
            <a:ext cx="4114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apernaum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postles Called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Great Multitude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any Miracle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Sermon on the Mount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First Opposition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Many Parable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Limited Commission 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ohn Beheaded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3809880"/>
            <a:ext cx="2590920" cy="520560"/>
          </a:xfrm>
          <a:prstGeom prst="rect">
            <a:avLst/>
          </a:prstGeom>
          <a:noFill/>
          <a:ln w="38160">
            <a:solidFill>
              <a:srgbClr val="57bc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bcef"/>
                </a:solidFill>
                <a:latin typeface="Tahoma"/>
              </a:rPr>
              <a:t>We are here.</a:t>
            </a:r>
            <a:endParaRPr b="0" lang="en-US" sz="2800" spc="-1" strike="noStrike">
              <a:solidFill>
                <a:srgbClr val="57bce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4114800"/>
            <a:ext cx="1600200" cy="0"/>
          </a:xfrm>
          <a:prstGeom prst="line">
            <a:avLst/>
          </a:prstGeom>
          <a:ln w="57240">
            <a:solidFill>
              <a:srgbClr val="57bce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7bce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E0A-1CD5-4401-BA8F-DAC2DDB130EE}" type="slidenum">
              <a:t>2</a:t>
            </a:fld>
          </a:p>
        </p:txBody>
      </p:sp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505320" y="3222720"/>
            <a:ext cx="5638680" cy="3635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791320" y="762120"/>
            <a:ext cx="25336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rea of Jesus'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cond Tour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f Galilee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0DD7-6FA7-40AF-91FF-8915C4226526}" type="slidenum">
              <a:t>3</a:t>
            </a:fld>
          </a:p>
        </p:txBody>
      </p:sp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econd Tour of Galilee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esus’ Teaching Was About The Good News of the Kingdom of God –         Luke 8:1-3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Kingdom was “at hand” (almost here)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King had an urgent message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King had a wonderful message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King had His Twelve with Him 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King was helped and supported by noteworthy women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esus was busy doing His work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089-D21A-43AD-88EC-0CFA9B9D59D8}" type="slidenum">
              <a:t>4</a:t>
            </a:fld>
          </a:p>
        </p:txBody>
      </p:sp>
    </p:spTree>
  </p:cSld>
  <p:transition spd="med">
    <p:plus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harisees “Explain” Jesus’ Mirac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 occasion of healing a demon-possessed man – Matt. 12:22-30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eople: “Is not this the son of David?”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harisees: “He gets his power from Satan”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esus: “Then Satan is working against himself; his house will fall”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re is no neutrality between the kingdom of Christ and that of Satan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88B-C570-4034-AA7C-2E0537B7BCB2}" type="slidenum">
              <a:t>5</a:t>
            </a:fld>
          </a:p>
        </p:txBody>
      </p:sp>
    </p:spTree>
  </p:cSld>
  <p:transition spd="med">
    <p:plus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harisees Blasphemed the Holy Spiri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Blasphemy – the speaking evil of God; speech injurious to another’s good name; irreverent words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Pharisees blasphemed the Holy Spirit by attributing Jesus’ miracles to the power of Satan – “He hath an unclean spirit” (Mark 3:30)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It shall not be forgiven in the Jewish age or the Christian age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Blasphemy against Jesus and all other sins can be forgiven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9D22-DC2F-4A86-80C9-6088F22607AF}" type="slidenum">
              <a:t>6</a:t>
            </a:fld>
          </a:p>
        </p:txBody>
      </p:sp>
    </p:spTree>
  </p:cSld>
  <p:transition spd="med">
    <p:plus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Unpardonable Sin”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A state of willful, determined opposition to God and the Holy Spirit where no efforts will avail to lead one to repentance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When one rejects the work of the Holy Spirit, there is no more testimony and no more opportunity to repent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What else is available for this one to gain salvation? 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A77-DCC7-479C-8637-7A93FD34AEE9}" type="slidenum">
              <a:t>7</a:t>
            </a:fld>
          </a:p>
        </p:txBody>
      </p:sp>
    </p:spTree>
  </p:cSld>
  <p:transition spd="med">
    <p:plus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harisees “Explain” Jesus’ Mirac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Jesus explained the motives of the Pharisees – Matt. 12:33-37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Corrupt trees have bad output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he tree is known by its fruit</a:t>
            </a:r>
            <a:endParaRPr b="1" lang="en-US" sz="24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Poisonous snakes release their venom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An evil one cannot speak good things</a:t>
            </a:r>
            <a:endParaRPr b="1" lang="en-US" sz="24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y will give account for their words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Justified? Or Condemned?</a:t>
            </a:r>
            <a:endParaRPr b="1" lang="en-US" sz="2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48C-7330-4409-8386-AEA04A524C9A}" type="slidenum">
              <a:t>8</a:t>
            </a:fld>
          </a:p>
        </p:txBody>
      </p:sp>
    </p:spTree>
  </p:cSld>
  <p:transition spd="med">
    <p:plus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cribes and Pharisees Ask For A Sig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Will a new one do the trick?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- Matt. 12:38-45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y will have to wait and deal with the sign of the prophet Jonah</a:t>
            </a:r>
            <a:endParaRPr b="1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onas was three days in the whale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esus will be three days in the earth 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Jesus’ death, burial, and resurrection would be the ultimate sign to explain away</a:t>
            </a:r>
            <a:endParaRPr b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BFA2-89CD-45BD-B787-88D3A248B7DB}" type="slidenum">
              <a:t>9</a:t>
            </a:fld>
          </a:p>
        </p:txBody>
      </p:sp>
    </p:spTree>
  </p:cSld>
  <p:transition spd="med">
    <p:plus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8T14:04:43Z</dcterms:created>
  <dc:creator>Terry W. Benton</dc:creator>
  <dc:description/>
  <dc:language>en-US</dc:language>
  <cp:lastModifiedBy>Frank D Vines</cp:lastModifiedBy>
  <dcterms:modified xsi:type="dcterms:W3CDTF">2006-08-27T13:17:49Z</dcterms:modified>
  <cp:revision>11</cp:revision>
  <dc:subject/>
  <dc:title>Sir, We Would See Jesus</dc:title>
</cp:coreProperties>
</file>